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9E1-1609-42B6-A3F8-52A28D79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192-3E48-4D4B-A278-E34C7022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AC09C-2A04-4E63-B8B4-7481FF8D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42AD2-1EFD-4854-A018-F35B514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3353C-38D1-4059-AC24-3DB06275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5AC8C-5FE6-4D73-92C1-B13D1D81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46F51-9810-49C3-8770-389C5892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32464-7168-404E-A0F2-6C2A2890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2DE56-FE83-4D80-862B-39D134F9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14ADD-C5CA-4527-8938-AA1E968D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19792-0D41-43D0-84FF-AAA5319A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390E8-C0F6-449C-8A00-E4ED5A54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86F-7804-4CBE-880F-BF6C2753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3A30C-7E79-46DA-8EBC-6B780D05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D1283-3ABD-4D95-AE07-A1594754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77384-329B-4CFE-A78C-E86D0F0D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99D6A-7522-4BFA-9B6A-992F0DF5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88214-4227-41D8-AB4B-E2F4A64F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C4F1B-BF3F-4DC7-A095-09F3A9B1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E0C15-8D2C-478D-B9F8-20D54E97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5F369-FB00-4DDB-8CDC-A8CE29F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871CB-DDBF-4393-B237-64A41B1A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69CC4-56F9-4459-AB49-CEBA11C4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390-A7C4-4F56-87B3-838999A3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26387-BD91-4EE9-8A3D-356DC6FC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32F30-8778-440E-81A6-1E46E771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CFA27-4FF1-4A5B-A058-845BFB29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E8316-DB2A-4096-A6E6-4B8DBE7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D3415-267B-48BA-8523-DCA9BCC7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40845-7B7B-4758-8CAA-7A1D43C0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0477B-051A-4918-B082-935DCD8E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760E0-F319-4B77-AB08-C88A6160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2D4A8-F424-427B-9487-2F7CAC89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AE084-73B2-4447-BA0B-4FB8CC0F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0C5A-4E7C-45F8-8131-8359E9E2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6E66E-F47E-430D-9DAE-A7E35518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8A02-F638-4A17-9C00-97E31393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8DB40-395C-4184-ACC8-F445A48F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F9D58-7838-4288-BE77-0011E467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A02F4-48A9-439A-A81B-450A911B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2FD37-FBE0-448B-97DC-A136AFBD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A3077-E8A9-4766-89CA-6A3CAC32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5CC2E-8323-46A7-98F7-05C29623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7D6AD-6FA0-4024-9E7E-07A90B38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61196-DAA1-4C9E-89DE-12F989D9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29ED-57E0-41C6-A1C2-6DE870FE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79C2D-878D-468D-BDF4-040F33CB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393B6-C709-423D-AC4C-FC66A635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AF229-4D86-4FD0-A15C-3EB8086C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BE472-A548-47BE-A9D6-68536B87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B5E5B-83B6-409F-8570-947CE747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523D-712B-47E8-B462-49C458B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BF37-1520-4C91-87D2-799A856F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0910-3BC7-42CD-8082-5BD2D51F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8EFA-F81D-427E-BF76-5F97CAB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D521-D266-4C56-878A-48D95440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DAA-E878-4DAC-9993-9CE2D7D4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FC36-BCDD-48A8-8F1C-F7020846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0413-5571-4C3F-BC30-8067283E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7534-EC6B-456B-AB2C-78370F23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ECAA-3337-4C99-B0AD-56BD4935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16AD-FCE8-4D80-B01C-CEF8E74A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E952-22FD-4C23-B950-39B1675E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E622-1498-401B-8CA1-2ED941A1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BE17-2EA0-4A6C-9094-B27F2E4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F2D7-15BB-441F-A9D5-99B5E6EC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083E-99F6-423E-80FA-2D6337C2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5D3-B956-47AF-BA2A-35555C5D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4036-D123-4C49-B0AA-09BBCDB5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A699-385D-44AF-A83E-231D171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0433-3187-428A-9483-7583E57A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444C8-463F-4C68-BFC0-4C1D0CCA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6534-20C5-47A9-93F4-4707C61E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341E-4189-444B-B84E-A9492938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7F45-A008-4079-B4FE-E3CF9610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7CEA-F7D4-4E69-BB65-B2DEC521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5B227-333C-4248-886B-7FDF720A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2B1FA-6D10-40C3-8281-482C38CB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B09-4E5B-43E9-B36A-DAEB3E98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78A9-3DC2-48B3-9C15-15BAEA0C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FFCC-0CA1-4B6F-9964-19A731B1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13F0-F2F4-4CF8-809F-BBEDD15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D56A-415E-48AC-8963-910A8CBE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4749-46B2-4100-9CDC-31708EA0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7763-4A53-45BA-80C8-0E5D093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F8BED-1FE5-4ADA-9E75-F0E9F084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14917-B6B2-4D7C-9DB8-AA6DE5C9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2625-2BC9-41E4-A1C5-D9767C8C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76CA4-CBC8-4045-AD4A-EDFEEA97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C0F-E330-44F0-AC2E-6F2990C2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1C977-AE43-4C08-939A-6100A0AF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A60CD-A5DC-46F3-A5A7-A76DB8A7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5C3AC-A076-420D-83B3-207F4001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D2C34-DEAC-4BA1-9C86-DA218666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820A9-6A05-4711-BF70-0D30F90E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2CCC0-6700-42F1-869D-F9BA074B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089D-5BC3-42C2-B24A-D04BA37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4689A-9A92-42C6-9B4F-34D435B6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AC028-9FC2-4ABD-A6A4-E3A39D32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F33B-E158-4CAB-A4AD-E2A67D4F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4A5-B52F-4E40-916F-D3B90CE1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278AE-F577-448D-9F80-7EF3F989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DFD5D-09A5-4163-ACBF-43AAC5AC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9629-962C-49BE-B6C6-A0C53914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9223A-F2EE-4CF7-9C13-9922A716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08D68-A070-4661-AF59-1A39706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0DD8-E577-40FE-9DFB-5588F5F9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EE07-9A66-4BFA-81FC-346C37B9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89AC9-BE8A-4AC6-AAD1-78053EB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DA1B5-978F-4CAA-A3A0-E32131B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ABA1-2A62-494F-922F-21ABB93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1BE-D819-4442-BF0B-0FFAF0C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2B822-AEE9-4D10-ABFE-A45E167F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90909-46EF-4A99-9EBC-DE668A96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AA4A-B409-440F-8A1E-5678489E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C9030-4027-498A-A280-4924E7F0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4B9FE-6FCF-4B8D-8D28-EC4DBD85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16807-81B8-4BA8-88CD-B08DDA8E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912CE-8730-48B7-910A-788AEBAF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1DFA2-F9FF-4534-81F5-2F32F34E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F8D8C-28F5-4BC7-9BC2-628CD365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48283-CE60-4E52-B521-AD81EE8F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D95-86CD-426F-9394-09828A03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B80F8-7BB8-4C6F-98FD-53EC9629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FBB92-E84D-47C0-863A-3EE52704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2380-B86F-450A-AD3E-A5D68638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1FC7C-FB4A-4CAE-9878-71AFFFF8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19DAA-89C0-4D70-BAC7-4A02800E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A94F8-CFCA-4534-9A64-12CCA706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93062-9D53-4651-9F03-D5BE738F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B6704-3678-49B4-B75C-61557C8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C1F2E-4118-47D3-AD34-5D1F3690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21A9-D1B3-4527-AB08-6E747622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382-0E99-4ECD-AB86-A8AACF3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A762-4946-4036-BB5E-08387436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16400-F385-4FA6-801C-AAD46831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064A0-3623-442B-AB44-E6B9B6A4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FAB12-98B6-4552-A6FC-F88B654E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FE6D-8E34-41BC-976C-E902795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8CC7A-4ED0-4693-9956-1DB51B4B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9FDE-0129-45C7-8FF9-2264EE0F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C1D37-C505-40B3-BAC4-6D2A246C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58522-9A1D-4326-AC7C-09FCAF0C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C5CD8-4814-4E1E-8682-909EA4CF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A445-9888-407C-8781-03CDD75523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F939-2C91-4C5F-885D-5B54177959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EE8-F509-4A1C-9FCA-C36C26E969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E085-FC2D-4F79-AC46-10BDC98299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5C2B-3A63-4669-AC6C-DCDC8F5C1B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A9B4-7B7A-4A3B-88F0-8E1C5C3F98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9D46-19F7-427B-9E4D-89DCF2AF25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F348-6F73-4E22-BF64-BE78EAB4C3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8CB3-F184-4A16-B4FF-0146DCA9DD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AAE4-B6B7-4CBD-A0B6-A26F6BAF04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3B6A-76A0-4C13-BE63-3E06BCEC75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42B-E24B-46D7-B45E-4A2BB55093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1 Chcem vždy P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slavo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sa všetko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láska nikdy 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ždy Pána oslav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spievať piesne chvá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mu Bohu vďaku vzd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i v Kristu všetko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veľká milosť je t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ma všade sprevádz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ňho pomoc nachádza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ikom inom spásy nie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sa všetko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láska nikdy 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orlica si skrý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krídlami mláďa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ruka milostiv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o mnou je rozp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a stráži svojím ok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ruku ma vedie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z prekážky, príval bi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dáva mojim kro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sa všetko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láska nikdy 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ušetril svojho Sy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l ho na smrť kvôli m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hladená je moja vi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je mo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nikdy nedocen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lásku nesmiernu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lasť mi chystá nádhernú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vete sa všetko 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25:00Z</dcterms:modified>
  <cp:revision>30</cp:revision>
  <dc:subject/>
  <dc:title>Je veľký náš Pán, on slávy je Kráľ Nech do všetkých strán  spev vrúcnych znie chvál.</dc:title>
</cp:coreProperties>
</file>